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10E3-8F1C-4254-9457-3FDF434F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AA29-2FFB-4270-A07E-3FB9F615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21E0-CCB7-41FB-BA7F-68A15104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BE72-252A-4B85-9DAE-A72380C1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A557-C445-4E53-B190-0DCE8151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0620-7A70-476A-B3A6-4648D18F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6C96-D678-452D-B1C6-782DC419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040B-46FE-409E-A847-15D6AC54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85E4-BADF-4DA3-BE35-9C5FFC93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27CC-FB6F-4751-9526-186B18C3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CFD2-91A1-4723-819C-1D76E766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AAD6-D9B4-4FD3-935F-44F7007C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4A30-48CC-4A44-9486-A850473EF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Basics of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Logistic Regress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5486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5943600"/>
            <a:ext cx="81532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925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76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153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848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21:55:24Z</dcterms:modified>
  <cp:revision>43</cp:revision>
  <dc:subject/>
  <dc:title>PowerPoint Presentation</dc:title>
</cp:coreProperties>
</file>